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2CD-6932-49E8-A23C-D17F55C4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F3B-34DD-4393-AD92-F61D9A19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9F3-8B4B-4194-9A76-EF205492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9A7-63EB-4C7F-9774-5F63AA48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4D4-F908-45C3-BCF4-F15658AB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BFBE-75BD-4F95-A2EC-A9C1DE3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5A0-F1B9-41DF-B99C-9FFE442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9A8D-97BE-4A97-BD37-553E0381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E350-F417-4E29-B03B-B5772DCF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3B1C-3CB7-42CC-BA02-3646D60A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F99-687F-4BD4-9BF6-68867BC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226-55D3-432C-A5C9-B64B4235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BE8D-063E-4076-9B16-16406407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721-A30C-4062-948C-3E48A421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02E2-8EBA-4F59-AB3A-C1D4C67E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0E11-745F-451C-AA8B-08888323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6464-B688-4BC4-AB16-A67A596B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F5962-3973-4708-86D6-17D36533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FC9D3-D025-4D48-BF5D-91E2EFA1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16585-F14D-4309-A714-653B3E6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DD98E-9F7F-44B6-8942-A8D65F17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8B939-8241-4E71-877D-FD19AD03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6BA-2582-44E9-85D5-BCF65256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CD530-3A53-43E1-9F05-F7C6BB97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ACA17-C9E1-40B9-80B0-898E42AC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415FD-B685-419D-A691-3DD02B29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201F8-9676-4A9F-A3AB-3E7B511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93FA2-512A-4194-A017-3EEDD5B3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288A9-C024-4D44-A986-1819BE6C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C9D13-A215-42E9-95AF-A1139743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E08-799C-406F-B7B0-2A714F7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38D-2486-4FE7-B168-1FBB577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F57-174E-45BF-A627-28C0AAA1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0E6-6644-41AB-8816-7051B62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ADD-1ED0-42FF-80E5-7884DF83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43F-70E8-46DE-94FD-696F935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FD3F-715E-48A5-A22C-B1BB7D119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E101-335C-4ADE-8D7D-0D1198137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9B1-E62C-479B-A0C6-128DD47CA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944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КОМАНДНАЯ ГИМНАС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42920" y="3500280"/>
            <a:ext cx="72741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держание, регламент и правила соревнований среди учащихся общеобразовательных шк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A8652-FF9A-4701-A9B0-BF87C17C86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8C8-C402-430C-8944-E7873E0CB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РУППОВЫЕ ВОЛЬНЫЕ УПРАЖНЕНИЯ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«Е»  9 – 11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КОМАНДЫ СМЕШАННОГО СОСТ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Юноша выполняет стойку на руках, девушка, стоя в выпаде вперёд прав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держивает юношу за н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Девушки выполняют равновесие («ласточку»), юноши – равновесие, нога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орону ( не менее 45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Юноши и девушки выполняют прыжок вверх с поворотом на 270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Девушка выполняет переворот в сторону, юноша помогает ей, держа её 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я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Юноши и девушки выполняют перекаты согнувшись вправо и влево н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E5E-10EF-4AF2-9E6B-8ABD0C12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КРОБ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КАТЕГОРИИ СЛО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»   1 – 2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ор присев – 2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вырка вперё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вверх прогнувшис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пор присев – 2 кувырка вперёд –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вверх прогнувшись ноги вроз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»   3 – 4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тарт пловца» - кувырок вперед – пов. направо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екат боком вле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ов. направо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вырок наза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ов. направо 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екат боком  вправ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ов. направо - кувырок вперед – прыжок вверх прогибаяс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Старт пловца» - 2 кувырка вперёд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вверх с поворотом на 180</a:t>
            </a:r>
            <a:r>
              <a:rPr b="1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» 5 – 6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Старт пловца» 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вырок вперёд прыжк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упор присев – прыжок вверх ноги врозь – кувырок вперёд –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Старт пловца» - кувырок вперёд в упор присев ноги скрестно – поворот кругом в упоре присев -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ва кувырка наза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ыжок вверх с поворотом на 180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0859-2B5F-4B08-9B7C-EC4A9B018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АКРОБАТИКА</a:t>
            </a:r>
            <a:br>
              <a:rPr sz="24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»   7 – 8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вырок вперёд прыжк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ыжок вверх ноги врозь – кувырок вперёд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вверх с поворотом на 360</a:t>
            </a:r>
            <a:r>
              <a:rPr b="1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ереворот в сторон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колесо) – приставляя ногу, поворот направо (налево) – кувырок  назад - прыжок вверх с поворотом на 180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кувырок вперёд –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»   9 – 11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разбег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лёт – кувыр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ыжок вверх с поворотом на 360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два кувырка вперёд – прыжок вверх с поворотом на 360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разбег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ва переворота в сторон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приставляя ногу, поворот направо (налево) – два кувырка  назад - прыжок вверх с поворотом на 180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3D1-F1DF-439D-A98F-6790388CE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ГИМНАСТИЧЕСКИЕ 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»   1 – 2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полняются 2 прыжка через комбинированный снаряд - гимнастический козёл (конь в ширину) и приставленная к нему наклонная скамейка. Минимальная высота снаряда – 9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Бег вверх по скамейке – “старт пловца” –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г вверх по скамейке - “старт пловца” –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ыжок вверх ноги вроз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В</a:t>
            </a: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»   3 – 4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полняются 2 прыжка через гимнастического козла в ширину или коня поперёк с гимнастического мостика.  Минимальная высота  снаряда - 10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аскок в упор сидя на пятка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перейти произвольным способом в упор присев -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аскок в упор сидя на пятка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перейти произвольным способом в упор присев - прыжок вверх прогнувшись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en-US" sz="1600" spc="-1" strike="noStrike" u="sng">
                <a:solidFill>
                  <a:srgbClr val="ff6600"/>
                </a:solidFill>
                <a:uFillTx/>
                <a:latin typeface="Arial"/>
              </a:rPr>
              <a:t>»   5 – 6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полняются 2 опорных прыжка через гимнастического козла в ширину или коня поперёк с гимнастического мостика. Минимальная высота снаряда – 105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аскок в упор присе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аскок в упор присе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и  прыжок вверх прогнувшись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54E1-818D-4843-9DAB-15656C6D8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ГИМНАСТИЧЕСКИЕ ПРЫЖКИ</a:t>
            </a:r>
            <a:br>
              <a:rPr sz="2400"/>
            </a:b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ru-RU" sz="1600" spc="-1" strike="noStrike" u="sng">
                <a:solidFill>
                  <a:srgbClr val="ff6600"/>
                </a:solidFill>
                <a:uFillTx/>
                <a:latin typeface="Arial"/>
              </a:rPr>
              <a:t>»   7 – 8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яются 2  опорных прыжка через гимнастического козла в ширину. Минимальная высота снаряда 11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согнув ног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мечание: девушки могут выполнять два одинаковых прыжка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6600"/>
                </a:solidFill>
                <a:uFillTx/>
                <a:latin typeface="Arial"/>
              </a:rPr>
              <a:t>«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ru-RU" sz="1600" spc="-1" strike="noStrike" u="sng">
                <a:solidFill>
                  <a:srgbClr val="ff6600"/>
                </a:solidFill>
                <a:uFillTx/>
                <a:latin typeface="Arial"/>
              </a:rPr>
              <a:t>»   9 – 11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яются 2  опорных прыжка через гимнастического коня в ширину. Минимальная высота снаряда: девушки 120 см.; юноши – 130 см., команды смешанного состава – 12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бок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ыжок боком с поворотом на 90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сновные положения регламента соревн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ревнования проводятся отдельно среди команд мальчиков и девочек, а также команд смешанного состава, численностью о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челове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анды обязаны участвовать в каждом из трёх видов многоборья: вольных упражнениях, акробатических и гимнастических прыж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выполнению акробатических и гимнастических прыжков допускаются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участников из числа выступивших в групповых вольных упражнен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ражнения на всех видах многоборья выполняются под выбранное самими участниками музыкальное сопровождение инструментального характ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льные упражнения  выполняются на площадк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 х 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ме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кробатические упражнения выполняются на дорожке из гимнастических матов, рабочая часть которой составляет в длину не мене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м, в ширину –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мнастические прыжки выполняются с использованием гимнасти-ческого мостика, гимнастического козла или  коня и  поролоновых матов для приземления. Высота площадки приземления не мене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м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84A-6D66-4CD6-B641-0D1BBDE8A73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щие положения судейства соревн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ценка действий команды начинается с момента принятия исходного положения. Разрешается использование инструментальной музыки для выхода и ухода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держка и явная помощь наказывается соответствующими сбавками. Не разрешается разговаривать или давать указания участникам во время выполнения ими упраж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шибки, связанные с нарушением требований к исполнению и композиции наказываются сбавками о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алла; к трудности упражнений –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; к общему порядку выполнения упражнения – 0,5 бал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ончательная оценка команды получается путём вычитания из максимальной оценк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0,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ов сбавок, сделанных за нарушение требований к выполнению элементов и соединений; за ошибки исполнения,  а на вольных упражнениях, дополнительно, за композиционные ошибки; за нарушение общего порядка выполнения упраж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67C-2357-40E4-967A-F5BF5CA5775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бщие положения судейства соревн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удьи – контролёры принимают консолидированное решение о величине сбавки  за  несоответствие выполненного упражнения требованиям программы соревнований и информируют о ней арб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выведении окончательно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бавки за композиционные ошибки и ошибки исполнения высшая и низшая сбавки отбрасываются, а окончательная сбавка является средней арифметической из оставш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ротоколы вносится следующая информац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вки, сделанные судьёй-контролёром за нарушение требований к выполнению обязательных элементов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вки, сделанные каждым судьёй в отдель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ние сбавки за ошибки исполнения и компози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пециальные сбавки арбит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ончательная оценка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46D-F80C-46D6-823C-332D31F8AE9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ценка групповых вольных упраж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упповые вольные упражнения представляют собой двигательную композицию, строго обязательного характера, выполняемую без предметов под произвольно выбранное музыкальное сопровождение   инструментального харак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анда должна организованно занять исходное положение на ковре для начала выступления и организованно уйти с ковра после его завершения. Разрешается использование инструментальной музыки для выхода и ухода с ков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 время выполнения вольных упражнений не разрешается заменять участ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 команды может быть от 8 до 12 участников. Сбавки с оценки за неправильное количество участников регламентируются положением о конкретном соревнова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мнасты должны полностью, без изменений выполнить обязательное упражн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07D-611A-4586-A56A-19FF54FCBC9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ценка групповых вольных упражнений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25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аждой категории имеются элементы/соединения, имеющие трудность, каждый из которых имеет стоимость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алл. В случае, если даже один гимнаст не сумел выполнить элемент, имеющий трудность, его стоимость не засчитыв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5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есогласованность движений с темпо-ритмом музыкального сопровождения. несогласованное выполнение движений гимнастами, а также  отсутствие выразительности, нарушения требований к гимнастическому стилю, производятся сбавки о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,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ал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25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арушение техники исполнения, допускаемых отдельными участниками при выполнении элементов и соединений, имеющих трудность, производятся сбавки о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,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400"/>
              </a:spcBef>
              <a:buClr>
                <a:srgbClr val="0000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нарушение требований к общему порядку выполнения упражнения, требований к спортивной форме и музыкальному сопровождению, недостающее количество гимнастов, неправильное соотношение юношей и девушек в командах смешанного состава производятся сбавк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,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- 0,5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лла с окончательной оценки ком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2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16D-1AD9-4FDE-A2FA-6C725043362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966E-526A-493A-BD11-F4DADFA43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ические требования к содержанию и организации соревнований по командной  гимнас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ответствие соревновательной деятельности требованиям раздела «ГИМНАСТИКА» Программы по физической культуре для учащихся общеобразовательных школ РФ на начальной, основной и средней ступенях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грессирование сложности двигательных заданий с учётом их доступности для разнополых учащихся с обычным уровнем физической подготовл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хранение образовательно-развивающего потенциала гимнастики на основе воспитания культуры движений, формирования спортивно-прикладных двигательных умений и навыков, развития основных двигательных способ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использования программного содержания соревнований по общей гимнастике для тестирования уровня индивидуальной успеваемости учащихся по предмету «Физическая культу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ценка акробатических и гимнастических прыж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 команды от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участ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ё выступление происходит под инструментальную музыку, которую участники выбирают 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частник может начать выполнять упражнение только после того, как его товарищ по команде освободил площадку приземления, но пауза между участниками  не должна превышать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х секу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сле каждого подхода участники возвращаются на исходную позицию вместе и одноврем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одном подходе могут участвовать разные участники из одной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упражнение выполнено неправильно, допущено сильное искажение одного или нескольких элементов или очерёдность их выполнения, то участник получает сбавку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вка команды за выполнение одной акробатической комбинации / гимнастического прыжка равна сумме сбавок, полученных каждым участни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E0F-E39E-41EA-93A6-9A459CFB5C1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ценка акробатических и гимнастических прыжков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тоговая сбавка команды равна сумме сбавок, полученных участниками за выполнение каждой  акробатической комбинации / гимнастического прыж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 нарушения техники исполнения акробатических упражнений и гимнастических прыжков, допускаемые отдельными участниками, оказание им помощи делаются сбавк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1 –  0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опорных прыжках предусмотрены специальные сбавки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а за приземление ближ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  от снаряда и установку гимнастического мостика ближ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 от переднего края снаря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 нарушение требований к общему порядку выполнения упражнения: отсутствие музыкального сопровождения, задержка  выполнения упражнения, разговоры с участниками, нарушение  последовательности выполнения упражнений и др., производится сбавка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0,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20000"/>
              </a:lnSpc>
              <a:spcBef>
                <a:spcPts val="201"/>
              </a:spcBef>
              <a:buClr>
                <a:srgbClr val="0000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рушение численного состава команды, а также неправильное соотношение разнополых участников в командах смешанного состава приводит к сбавке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бал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ACB-FF24-40EB-A265-01BAFB08AE7D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F6C-6A69-44B0-B2B0-3F24E68FD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ические требования к содержанию и организации соревнований по общей гимнастике</a:t>
            </a:r>
            <a:br>
              <a:rPr sz="24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одолжен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ступность методики  проведения внеклассных занятий с системе дополнительного физкультурного образования учителям, не владеющим специальной углублённой гимнастической подготов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проведения соревнований на типовом гимнастическом оборудо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степенный переход от рецептурно-информационных способов организации учебно-воспитательного процесса к активизации самостоятельной творческой деятельности уча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93F2-5397-4691-A6C6-16C1452BC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пецифические особенности соревнований по командной гимнастике среди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ключительно командный характер соревновате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трогая обязательность упражнений для учащихся 1 – 8-х классов с последующим переходом к составлению произвольных программ для старшекласс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ценка выступления команды как по уровню индивидуальной подготовленности каждого участника, так и по степени согласованности действий всех её член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зможность участия в отдельных видах программы по выбору, ориентируясь на индивидуальный уровень подготовленности и ведущие способ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спользование музыкального сопровождения на всех видах гимнастического многобор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201"/>
              </a:spcBef>
              <a:buClr>
                <a:srgbClr val="ff00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сокая моторная плотность занятий в период подготовки к соревнованиям за счёт использования фронтального и поточного способов организации учебно-тренировочного проц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33336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8000"/>
                </a:solidFill>
                <a:latin typeface="Arial Unicode MS"/>
              </a:rPr>
              <a:t>Содержание соревнований по общей гимнасти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8000"/>
                </a:solidFill>
                <a:latin typeface="Arial Unicode MS"/>
              </a:rPr>
              <a:t>среди учащихся общеобразовательных шко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23619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Unicode MS"/>
              </a:rPr>
              <a:t>во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 Unicode MS"/>
              </a:rPr>
              <a:t>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2057400"/>
            <a:ext cx="23619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Unicode MS"/>
              </a:rPr>
              <a:t>гимнас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 Unicode MS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 Unicode MS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057400"/>
            <a:ext cx="21333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Unicode MS"/>
              </a:rPr>
              <a:t>акроб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505-4D85-4E9D-AEE0-7DEB69ABDE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533520"/>
            <a:ext cx="820728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413000"/>
            <a:ext cx="2160360" cy="44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Unicode MS"/>
              </a:rPr>
              <a:t>1 – 2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1700280"/>
            <a:ext cx="5040360" cy="4651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тегория сложности «</a:t>
            </a:r>
            <a:r>
              <a:rPr b="1" lang="ru-RU" sz="2400" spc="-1" strike="noStrike">
                <a:solidFill>
                  <a:srgbClr val="ff3300"/>
                </a:solidFill>
                <a:latin typeface="Arial Unicode MS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040" y="194616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051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421000"/>
            <a:ext cx="2160360" cy="3988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Unicode MS"/>
              </a:rPr>
              <a:t>3 – 4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3357720"/>
            <a:ext cx="2160360" cy="3988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Unicode MS"/>
              </a:rPr>
              <a:t>5 – 6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4365720"/>
            <a:ext cx="2160360" cy="3988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Unicode MS"/>
              </a:rPr>
              <a:t>7 – 8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5373720"/>
            <a:ext cx="2158920" cy="3834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Arial Unicode MS"/>
              </a:rPr>
              <a:t>9 – 11 класс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1280" y="2637000"/>
            <a:ext cx="5040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тегория сложности «</a:t>
            </a:r>
            <a:r>
              <a:rPr b="1" lang="ru-RU" sz="2400" spc="-1" strike="noStrike">
                <a:solidFill>
                  <a:srgbClr val="ff3300"/>
                </a:solidFill>
                <a:latin typeface="Arial Unicode MS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0389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тегория сложности «</a:t>
            </a:r>
            <a:r>
              <a:rPr b="1" lang="ru-RU" sz="2400" spc="-1" strike="noStrike">
                <a:solidFill>
                  <a:srgbClr val="ff3300"/>
                </a:solidFill>
                <a:latin typeface="Arial Unicode MS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653000"/>
            <a:ext cx="5040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тегория сложности «</a:t>
            </a:r>
            <a:r>
              <a:rPr b="1" lang="ru-RU" sz="2400" spc="-1" strike="noStrike">
                <a:solidFill>
                  <a:srgbClr val="ff3300"/>
                </a:solidFill>
                <a:latin typeface="Arial Unicode MS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5661000"/>
            <a:ext cx="504036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атегория сложности «</a:t>
            </a:r>
            <a:r>
              <a:rPr b="1" lang="ru-RU" sz="2400" spc="-1" strike="noStrike">
                <a:solidFill>
                  <a:srgbClr val="ff3300"/>
                </a:solidFill>
                <a:latin typeface="Arial Unicode MS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6844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85240" y="542880"/>
            <a:ext cx="776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труктура программы соревнований по общей гимнасти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среди учащихся общеобразовательных ш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C87-9ADB-4E3C-B690-715484BE41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9A59-6ED8-4F70-A538-2713ABC7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РУППОВЫЕ ВОЛЬНЫ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яются с произвольно выбранным музыкальным сопровожд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«А»   1 – 2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– 40 движений (5 ф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Упор лё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ед углом 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ерекат налево кругом, прогнуться, руки в стороны 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Встать в равновесие в стойке на носках, руки вверх 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ыжок вверх прогнувшись, руки вверх-наруж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«В»   3 – 4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– 48 движений (6 ф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 Из упора лёжа согнуть руки и выпрямляя, мах правой наз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ерекат назад в стойку на лопатках  (держат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оворот направо (налево) кругом в положение прогнувшись, руки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Равновесие на правой, сгибая левую вперё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ыжок вверх прогнувшись, руки вверх – наруж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A98A-51D3-4CDF-92D8-EAB0B9A2C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РУППОВЫЕ ВОЛЬНЫЕ УПРАЖНЕНИЯ</a:t>
            </a:r>
            <a:br>
              <a:rPr sz="24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«С»   5 – 6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– 64 движений (8 ф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тойка на лопатках с прямыми ногами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ед углом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Из упора лёжа выпрямить руки (отжаться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Равновесие на правой (левой), сгибая левую (правую) вперёд, руки в стороны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«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»   7 – 8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должительность – 64 движений (8 ф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Стойка на лопатках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ерекат боком вправо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Мост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Равновесие на правой (левой), левую (правую) в сторону (не ниже 45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и стороны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Прыжок вверх прогнувш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86F-B269-45D4-AFB3-5322B8BB7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ГРУППОВЫЕ ВОЛЬНЫЕ УПРАЖНЕНИЯ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«Е»  9 – 11 кла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олжительность – 64 движений (8 фра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ДЕВ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Равновесие («ласточка»)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Одноимённый поворот на 360°, сгибая свободную ногу вперёд, руки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еч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Сед углом руки в стороны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Из седа наклон вперёд, руки вверх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Мах правой и левой в сторону, руки в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ЮНО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Перекат назад согнувшись в стойку на лопатках (держать) и перек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перёд в упор прис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Равновесие («ласточка») (держат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Одноимённый поворот на 360°, левую назад, руки в ст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Сед углом руки в стороны (держа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Перекаты согнувшись вправо и влево ноги вро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26:10Z</dcterms:created>
  <dc:creator>Андрей Борисович Лагутин</dc:creator>
  <dc:description/>
  <dc:language>en-US</dc:language>
  <cp:lastModifiedBy>Admin</cp:lastModifiedBy>
  <dcterms:modified xsi:type="dcterms:W3CDTF">2012-11-19T13:42:42Z</dcterms:modified>
  <cp:revision>22</cp:revision>
  <dc:subject/>
  <dc:title>Слайд 1</dc:title>
</cp:coreProperties>
</file>