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5B4-9612-4A8F-9B51-9EFAB2CA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DF-972C-4D15-A4FE-718F7CD4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C1F-42A5-4F68-BEAC-89847A58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3BA-2EC3-4E0E-8ECF-022DA651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48FF-B5A8-454C-9564-872D8B58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164-5B9D-43D8-936C-46C54FC2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FD48-8217-4EB1-AB1D-20B15D4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203-150E-45B0-BD61-CAE7EF4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120-2D67-4798-89F3-D25A563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EB61-261A-45A6-BC71-5CBBD4E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AD5-BBBB-4F87-A8BB-F245BD0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B1B-CFC4-49E8-8287-7A83B4D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B0E-8074-489D-8271-9800EDF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1D15-9424-4FEF-94FE-C859D4BF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4B4B-AC9F-401D-B7C2-3A7D816C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F2C-A192-4685-98AB-F4D7BEC3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535-8128-4ADA-BE74-146AACB0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E509-43EC-4B5C-9CB3-535A27DF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F966-FDC3-451C-B42F-9888DB0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BA5C-7D5B-461B-B968-F8032D00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1FC9-2F11-4A76-893A-2ADF465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DDA2-0BBE-4136-B07F-EC030351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04B-36CC-4777-9F04-EDC372B5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56A2-247D-4848-B828-A76C29B2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B9F8-6155-4E5B-979C-00ED62D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F1E9-FDA6-49B3-AC3C-1B5670A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E641-3EB8-4CF0-BD82-24A4D8D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7689-369D-4D41-8959-68FF04D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3715-CD17-4F74-BADE-542A6763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BE3C-48E8-41BC-8199-18D8ED43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065-D0E4-4B61-8E3A-43809AD2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05E-A47A-4D41-9E7E-FF49F84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22A-7E63-49BE-A533-DE031A24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083-95C9-46BD-9622-6EDDC66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051-5C8E-4BF4-923B-B4EC7C3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3FE-037B-49D2-9BBD-AE8C26B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4F09-55B6-45F9-B6EA-4BC6709BE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28A-20DE-43EB-A711-BE0D11276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7CE-4793-48A4-ADDD-399FC062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стория Олимпийских иг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2124000" y="3216240"/>
            <a:ext cx="4392720" cy="215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51280" y="5529240"/>
            <a:ext cx="511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 – Кравченко Анастасия Олеговна, 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с.Екатери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938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981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64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373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5157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805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92428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70828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497480" cy="366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759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695840" cy="352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1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218200" cy="3705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024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146920" cy="3860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9640" y="284148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673440" cy="3156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8600" cy="604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36626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48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75640" cy="518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848720" cy="516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9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54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768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840120" cy="576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15080" y="620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80120" cy="5307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47640" y="6021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ция. Олимпия. Современ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98880" cy="568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57640" y="549360"/>
            <a:ext cx="3665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612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2306" r="0" b="0"/>
          <a:stretch/>
        </p:blipFill>
        <p:spPr>
          <a:xfrm>
            <a:off x="4932360" y="260280"/>
            <a:ext cx="4029120" cy="590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616572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71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10600" cy="5558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57556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468360" y="549360"/>
            <a:ext cx="835164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5229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us, Altius, Fortiu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е, выше, силь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04120" cy="555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6920" y="602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мони - столица первых зимних Олимпий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34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0418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07:22Z</dcterms:created>
  <dc:creator>Admin</dc:creator>
  <dc:description/>
  <dc:language>en-US</dc:language>
  <cp:lastModifiedBy>Admin</cp:lastModifiedBy>
  <dcterms:modified xsi:type="dcterms:W3CDTF">2012-09-03T04:43:25Z</dcterms:modified>
  <cp:revision>9</cp:revision>
  <dc:subject/>
  <dc:title>История Олимпийских игр</dc:title>
</cp:coreProperties>
</file>