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842-FC69-44A3-A5B2-2F69F28C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7EA-D576-4B5F-935B-923F34F7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C18-5986-4DA7-8CF9-E4AE9D91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59C-E2BE-40D8-A787-7E3767DC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A95-768C-4851-9C11-B36D5EAC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F5F-587A-42EA-8739-FF7CC838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CBA-FE9F-481A-8CCB-8EF6ED95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A53-985A-4BF1-9195-F41EAAB4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D69-2B32-4137-863E-CF6B5FE4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7EF-829B-4DF7-BFD7-E840631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55A-6F30-4630-A94B-CAF16EF9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F34-F420-4ABC-9A69-7430EFA4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B4EA-14A2-46D7-AC00-2D97B169B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11280" y="1484280"/>
            <a:ext cx="792144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3399"/>
                    </a:gs>
                    <a:gs pos="100000">
                      <a:srgbClr val="cc00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кробатика: </a:t>
            </a:r>
            <a:endParaRPr b="1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3399"/>
                  </a:gs>
                  <a:gs pos="100000">
                    <a:srgbClr val="cc0000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3399"/>
                    </a:gs>
                    <a:gs pos="100000">
                      <a:srgbClr val="cc00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орт или искусство?</a:t>
            </a:r>
            <a:endParaRPr b="1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3399"/>
                  </a:gs>
                  <a:gs pos="100000">
                    <a:srgbClr val="cc0000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Цирков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1557360"/>
            <a:ext cx="3673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Рейнское коле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763640" y="2205000"/>
            <a:ext cx="54738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Спортивн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1700280"/>
            <a:ext cx="3559320" cy="4753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932360" y="1557360"/>
            <a:ext cx="328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964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Спортивн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3502080" cy="4856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356000" y="1628640"/>
            <a:ext cx="32338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Спортивн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3308400" cy="48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780000" y="1628640"/>
            <a:ext cx="5135400" cy="385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19640" y="5734080"/>
            <a:ext cx="43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Прыжки на бату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Лыжн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50920" y="1700280"/>
            <a:ext cx="3211560" cy="4841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700280"/>
            <a:ext cx="5435640" cy="2776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5084640"/>
            <a:ext cx="43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Фрист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Парашютн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3782880" cy="395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140360" y="1628640"/>
            <a:ext cx="47656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Акробатика и </a:t>
            </a:r>
            <a:br>
              <a:rPr sz="3600"/>
            </a:b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Олимпийск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D:\_DATA\Личное\_MATVEY\akrobates\3.png"/>
          <p:cNvPicPr/>
          <p:nvPr/>
        </p:nvPicPr>
        <p:blipFill>
          <a:blip r:embed="rId4"/>
          <a:stretch/>
        </p:blipFill>
        <p:spPr>
          <a:xfrm>
            <a:off x="1692360" y="1557360"/>
            <a:ext cx="5657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436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Акробати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134136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И спорт, и искусст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3368880" cy="449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643280" y="2060640"/>
            <a:ext cx="29530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258920" y="1700280"/>
            <a:ext cx="669780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cc0000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а здравствует</a:t>
            </a:r>
            <a:endParaRPr b="1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cc0000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cc0000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cc0000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кробатика!</a:t>
            </a:r>
            <a:endParaRPr b="1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cc0000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3" descr="http://enc.lib.rus.ec/bse/009/001/212081967.jpg"/>
          <p:cNvPicPr/>
          <p:nvPr/>
        </p:nvPicPr>
        <p:blipFill>
          <a:blip r:embed="rId4"/>
          <a:stretch/>
        </p:blipFill>
        <p:spPr>
          <a:xfrm>
            <a:off x="826920" y="1557360"/>
            <a:ext cx="74883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Акробат</a:t>
            </a: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 — образовано от греческого acrobat</a:t>
            </a:r>
            <a:r>
              <a:rPr b="0" i="1" lang="en-US" sz="4000" spc="-1" strike="noStrike">
                <a:solidFill>
                  <a:srgbClr val="800000"/>
                </a:solidFill>
                <a:latin typeface="Georgia"/>
              </a:rPr>
              <a:t>e</a:t>
            </a: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s (акробатэс) — «хожу на цыпочках, лезу вверх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Акробатика</a:t>
            </a: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 – </a:t>
            </a:r>
            <a:r>
              <a:rPr b="0" i="1" lang="en-US" sz="4000" spc="-1" strike="noStrike">
                <a:solidFill>
                  <a:srgbClr val="800000"/>
                </a:solidFill>
                <a:latin typeface="Georgia"/>
              </a:rPr>
              <a:t>acrobateo </a:t>
            </a: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(акробатэо)</a:t>
            </a:r>
            <a:r>
              <a:rPr b="0" i="1" lang="ru-RU" sz="3600" spc="-1" strike="noStrike">
                <a:solidFill>
                  <a:srgbClr val="800000"/>
                </a:solidFill>
                <a:latin typeface="Georgia"/>
              </a:rPr>
              <a:t> 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Акробатика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908000" y="1413000"/>
            <a:ext cx="52182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Цирков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205000"/>
            <a:ext cx="2592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Сил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4176720" cy="303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5" descr="D:\_DATA\Личное\_MATVEY\akrobates\acobaty3.jpg"/>
          <p:cNvPicPr/>
          <p:nvPr/>
        </p:nvPicPr>
        <p:blipFill>
          <a:blip r:embed="rId5"/>
          <a:stretch/>
        </p:blipFill>
        <p:spPr>
          <a:xfrm>
            <a:off x="4500720" y="1700280"/>
            <a:ext cx="4457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620640"/>
            <a:ext cx="7556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Цирков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3" descr="D:\_DATA\Личное\_MATVEY\akrobates\akrobat.jpg"/>
          <p:cNvPicPr/>
          <p:nvPr/>
        </p:nvPicPr>
        <p:blipFill>
          <a:blip r:embed="rId4"/>
          <a:stretch/>
        </p:blipFill>
        <p:spPr>
          <a:xfrm>
            <a:off x="1187280" y="2205000"/>
            <a:ext cx="2998800" cy="4314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3640" y="1557360"/>
            <a:ext cx="25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Плече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449600" y="2205000"/>
            <a:ext cx="3124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Цирков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5805360"/>
            <a:ext cx="403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Акробатический вольт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3152520" cy="4728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564000" y="1773360"/>
            <a:ext cx="5375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Цирков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7280" y="1557360"/>
            <a:ext cx="3673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Пла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187280" y="2205000"/>
            <a:ext cx="64803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833400" cy="841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620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Цирковая акроб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708280"/>
            <a:ext cx="2447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Ко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0920" y="3429000"/>
            <a:ext cx="4465440" cy="308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360" y="5084640"/>
            <a:ext cx="302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Ком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716360" y="1700280"/>
            <a:ext cx="4203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8:44:14Z</dcterms:created>
  <dc:creator>Customer</dc:creator>
  <dc:description/>
  <dc:language>en-US</dc:language>
  <cp:lastModifiedBy>Admin</cp:lastModifiedBy>
  <dcterms:modified xsi:type="dcterms:W3CDTF">2012-11-19T12:36:26Z</dcterms:modified>
  <cp:revision>7</cp:revision>
  <dc:subject/>
  <dc:title>Слайд 1</dc:title>
</cp:coreProperties>
</file>